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348-1903-4F56-B4D6-928D19136E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5EF-4247-44C6-9C40-833DBA6661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EE62-0385-4862-945D-11F85B6DB1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89CF-0DEB-40CD-82ED-C7838368E7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9A7A-830D-43F5-83E8-BD8AF878B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62F9-2D0B-489E-9BCE-25A6A7016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701-B529-41F8-8435-AF3EAED8C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5E0-70EA-401A-9666-85016DD5F3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8B60-89A2-4475-97B0-CBED9A9687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CDF-6735-4D3A-A6FF-EA30C4D1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6EA-4541-467C-B983-4F096F68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19D-EE34-4BAD-8B6A-4D675C81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8C2-ACC1-4A71-82B4-3EF033B5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E1A7-0905-4CF4-BF48-D3887C1F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40C8-E47F-43E2-8341-CD0954A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50B2-1860-4475-96C4-935F573F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70A-8810-4CFE-87CC-9F7E0C99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4069-5C33-4068-94D2-C15D4CF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BD73-5B09-430D-A5A9-FA3EB4AA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C2B5-269C-46CA-857B-BFAB635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15A-ACCB-4A44-8A3B-DBFC5F3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4D62-7589-4D89-B768-123100C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CEF-4F3C-44CA-88FE-8411E4D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BA6-941E-47C9-9C06-00376F6F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FFD-8E92-480B-BEFA-B547F79E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35B5-5C63-4F89-8DCB-1A42527F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DE1-7465-459E-8FC8-C11C106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53A-9989-41E2-A8B9-B873A47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32D-FCF9-43D6-BB37-A3D5C76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838-0CC7-4A83-BE16-9E5261BC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3C2-3F94-481A-875F-E198CA0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FEC-CD0B-4037-9859-0E1ABBF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A28-A5ED-49CC-9394-0DE0D66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447-E820-430B-8C7F-8D49F20EDD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492F-A9E2-48E0-B2EE-DE95894B56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м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7215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М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7115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8" descr=""/>
          <p:cNvPicPr/>
          <p:nvPr/>
        </p:nvPicPr>
        <p:blipFill>
          <a:blip r:embed="rId1"/>
          <a:stretch/>
        </p:blipFill>
        <p:spPr>
          <a:xfrm>
            <a:off x="1785960" y="2357280"/>
            <a:ext cx="721692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2571120" y="2214720"/>
            <a:ext cx="57132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1999440" y="257184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00160" y="2857680"/>
            <a:ext cx="3571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00160" y="3071880"/>
            <a:ext cx="2145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86040" y="2357280"/>
            <a:ext cx="285840" cy="5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786880" y="207180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8714880" y="2143080"/>
            <a:ext cx="180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86439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172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725480" y="2071800"/>
            <a:ext cx="73044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5329440" cy="2500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429000" y="4286160"/>
            <a:ext cx="5170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7316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26T14:18:01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